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884-4B98-4C7E-839B-7FFD9EBE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A05-52EE-4DF5-9353-E90096A0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FD5-A96E-4F01-8EB2-610E0590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04E1-0E5F-4C82-A506-1A624C75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52C8-2745-4671-A634-AF573B75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DBAA-30D5-41CF-8002-91199450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8077-C21F-447B-8CA5-186756CC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1160-1788-4749-AC68-6B423741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0E4B-9401-4BFB-88DE-8F75EB1A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D678-7A52-4931-BC2A-B68DF636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2B04-CFF7-4EA2-939D-9B0E60FE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F68-8CCF-4248-99DE-EC6A1ACC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0326-A22F-4BA7-A0F4-13992C7E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DDE3-5187-4D8D-8177-5B8399C0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9C66-673F-446A-8378-6D17F140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730E-C5E1-4671-9F30-4EEF2C52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B08E-C550-4C2E-A98B-6D1ED2D3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A4D-35E7-44FF-B72E-E3AB080B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5316-CD3E-4F9D-A707-685C5ED5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BC5-767F-495A-9025-6AB79271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A42-30AA-475F-BECC-06FB9CF2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7E03-3FC9-4A0D-B78D-BF61F368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DC2-BF94-4840-A5C7-8747F87B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B34-B132-4511-9ABE-98EBA63F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838E-F24A-4EFF-BC0A-FAE140BD16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393A-7DC7-4F83-BC3F-9F0FD790402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Lesson #10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Topic: Coriolis Effect and Circular Motion Review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lain the Coriolis effect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Circular mo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cribe inertial and non-inertial reference fr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lve circular motion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19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6095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iform and Non-Uniform circular mo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419720"/>
            <a:ext cx="80773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 boy is sitting on the edge of a merry go round, and a girl is sitting in the center. While they are rotating they are going to try and play catch with a tennis ball. How must the girl throw the ball in order to successfully toss the ball to the boy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rse Square La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sily seen when looking at the surface area of two spheres, one with radius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and one with radius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2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ton used the moon to discover the inverse law relationship of the gravitational forc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nd that the centripetal acceleration of the moon was 1/3600 of the acceleration of gravity on the earth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also knew that the distance to the moon was about 60 times the Earth’s radiu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the relationship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vitational Constant 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overed by Henry Cavendish in 179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d very precise measurements in small movements observed between two large spheres and two small sphe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257800" y="3048120"/>
            <a:ext cx="2590920" cy="327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27432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iolis Ef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 an object moves radially outward from the center of a rotating platform, its tangential velocity will remain consta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velocity is slower than the tangential velocity of a point on the platform farther away from the cent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makes the moving object appear to curve or change direction when there is no force external force applied to i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iolis Ef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xample of this effect can been seen in hurricanes and cyclon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429000" cy="2293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3276360" cy="2222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14400" y="487692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always will spin counterclockwise in the northern hemisphere and clockwise in the southern hemisp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you explain why this occu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iolis Ef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312408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505320"/>
            <a:ext cx="9907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467480" y="3505320"/>
            <a:ext cx="10670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495680" y="5486400"/>
            <a:ext cx="0" cy="838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76600" y="1219320"/>
            <a:ext cx="0" cy="7617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2819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674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495680" y="4190760"/>
            <a:ext cx="304920" cy="152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333760" y="3276360"/>
            <a:ext cx="22860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91120" y="2819520"/>
            <a:ext cx="304560" cy="152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3505320"/>
            <a:ext cx="152280" cy="3045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4343400"/>
            <a:ext cx="0" cy="685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3505320"/>
            <a:ext cx="761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666520" y="3505320"/>
            <a:ext cx="7621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95680" y="2209680"/>
            <a:ext cx="0" cy="609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ircular Motion Re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eate a demonstration that shows that centripetal force and acceleration acts towards the center of the circ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cribe or demonstrate an example of an inertial reference frame and a non inertial reference fra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rive the equation a=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/r using geometry and previously known equa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nus 2p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d the range of velocities a car can have while rounding a banked curve such that it will not skid up or down the bank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dius of curv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gle of bank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i="1" lang="el-GR" sz="3200" spc="-1" strike="noStrike">
                <a:solidFill>
                  <a:srgbClr val="ffffff"/>
                </a:solidFill>
                <a:latin typeface="Verdana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efficient of friction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i="1" lang="el-GR" sz="3200" spc="-1" strike="noStrike">
                <a:solidFill>
                  <a:srgbClr val="ffffff"/>
                </a:solidFill>
                <a:latin typeface="Verdana"/>
              </a:rPr>
              <a:t>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bjectives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fter this class I will be able t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lain Newton’s Law of Universal Gravi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cribe the Gravitational constant 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lain the inverse squar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lve gravitation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5720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Lesson #11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Topic: Universal Law of Grav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2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548640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versal Law of Gravit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411480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hat causes objects to accelerate towards the Earth? And why do the objects accelerate at -10m/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? Why not -50m/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? Why not -2m/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ton’s Law of Gravi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143000"/>
            <a:ext cx="7619760" cy="43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ery particle in the Universe attracts every other particle with a force that is directly proportional to the product of their masses and inversely proportional to the square of the distance between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particles have masses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d are separated by a distance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the magnitude of this gravitational force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514600" y="4419720"/>
                <a:ext cx="21337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066680" y="54100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re G is a constant called the universal gravitational constant that has been measured experiment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472428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4800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 = 6.673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-1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N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/kg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vitational For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rst Non-Contact force we’ve discuss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rst Fundamental Force of Nat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natural attraction between all mat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tremendously weak force when dealing with everyday obje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End User</cp:lastModifiedBy>
  <dcterms:modified xsi:type="dcterms:W3CDTF">2006-09-21T19:15:05Z</dcterms:modified>
  <cp:revision>35</cp:revision>
  <dc:subject/>
  <dc:title>Lesson #1 8/29/06 </dc:title>
</cp:coreProperties>
</file>